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1E51-0452-40F5-8766-4779AB414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29F9-90F1-4753-9519-A244564E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6020-2A5E-48C7-AC25-002A6B90A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2E31-89CA-45A0-8D5B-FF63EC4E8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A3E3-7755-4D66-9338-159008D40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E317B-1C1E-4006-A9D8-F4E5B7CF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00F8-465C-4718-BA47-BBACCC3B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2C75-5185-437F-A97A-6ECD412B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1A43-12BD-4982-9D17-39385C87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7A65-1298-4222-94B1-561BE7CD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22BAD-FEDE-460C-8B7A-C204F652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3ED0-2F78-4995-A721-CB96DD1C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6FD1-4F93-4C2A-95AB-8B3B45C9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D8E9-12E5-4365-BD9A-CD560662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0CA9-6E78-4115-B728-09E935ED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6E3B-16B9-43F6-B386-80C37618E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AD5E-957D-4669-B1B5-1342E587D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0B80-DD32-4110-9234-DC3ACCDD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B50D-2CC6-4252-9661-42247941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3EB3-DFEE-45F0-B3F3-6714BA73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9983-027C-42F9-9A05-7392E416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8EAC-2955-4605-9DC1-540D1114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F3FC-BB9C-4C29-8110-CC4EC726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A301-979C-48C3-98CA-4303588F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0663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51"/>
              </a:spcBef>
              <a:buClr>
                <a:srgbClr val="33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576360" indent="-233280">
              <a:spcBef>
                <a:spcPts val="451"/>
              </a:spcBef>
              <a:buClr>
                <a:srgbClr val="3399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914400" indent="-223920">
              <a:spcBef>
                <a:spcPts val="451"/>
              </a:spcBef>
              <a:buClr>
                <a:srgbClr val="ff6600"/>
              </a:buClr>
              <a:buSzPct val="7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3" marL="1560600" indent="-292320"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4" marL="1990800" indent="-316080">
              <a:spcBef>
                <a:spcPts val="4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5" marL="1990800" indent="-316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6" marL="1990800" indent="-316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40C6-90F8-466C-80A4-23266C4DC3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58200" y="304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62485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9144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8591400" y="304920"/>
            <a:ext cx="452520" cy="609120"/>
            <a:chOff x="8591400" y="304920"/>
            <a:chExt cx="452520" cy="609120"/>
          </a:xfrm>
        </p:grpSpPr>
        <p:sp>
          <p:nvSpPr>
            <p:cNvPr id="9" name=""/>
            <p:cNvSpPr/>
            <p:nvPr/>
          </p:nvSpPr>
          <p:spPr>
            <a:xfrm>
              <a:off x="8591400" y="304920"/>
              <a:ext cx="68040" cy="558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87520" y="304920"/>
              <a:ext cx="68040" cy="558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783640" y="304920"/>
              <a:ext cx="68040" cy="558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591400" y="384120"/>
              <a:ext cx="68040" cy="558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87520" y="384120"/>
              <a:ext cx="68040" cy="558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783640" y="384120"/>
              <a:ext cx="68040" cy="558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879760" y="384120"/>
              <a:ext cx="68040" cy="558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591400" y="462960"/>
              <a:ext cx="68040" cy="558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7520" y="462960"/>
              <a:ext cx="68040" cy="558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783640" y="462960"/>
              <a:ext cx="68040" cy="558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879760" y="462960"/>
              <a:ext cx="68040" cy="558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975880" y="462960"/>
              <a:ext cx="68040" cy="558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591400" y="541800"/>
              <a:ext cx="68040" cy="5652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87520" y="541800"/>
              <a:ext cx="68040" cy="5652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783640" y="541800"/>
              <a:ext cx="68040" cy="5652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879760" y="541800"/>
              <a:ext cx="68040" cy="565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91400" y="621000"/>
              <a:ext cx="68040" cy="5652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87520" y="621000"/>
              <a:ext cx="68040" cy="5652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783640" y="621000"/>
              <a:ext cx="68040" cy="565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879760" y="621000"/>
              <a:ext cx="68040" cy="565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975880" y="621000"/>
              <a:ext cx="68040" cy="565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591400" y="700200"/>
              <a:ext cx="68040" cy="558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87520" y="700200"/>
              <a:ext cx="68040" cy="558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783640" y="700200"/>
              <a:ext cx="68040" cy="558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879760" y="700200"/>
              <a:ext cx="68040" cy="558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591400" y="779040"/>
              <a:ext cx="68040" cy="558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87520" y="779040"/>
              <a:ext cx="68040" cy="558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783640" y="779040"/>
              <a:ext cx="68040" cy="558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879760" y="779040"/>
              <a:ext cx="68040" cy="558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687520" y="858240"/>
              <a:ext cx="68040" cy="558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8879760" y="858240"/>
              <a:ext cx="68040" cy="558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" name=""/>
          <p:cNvSpPr/>
          <p:nvPr/>
        </p:nvSpPr>
        <p:spPr>
          <a:xfrm>
            <a:off x="208440" y="6232680"/>
            <a:ext cx="21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Decision Models - Stern Airl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3663-2C5C-42A8-97B6-E130EFCBE43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3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  <a:p>
            <a:pPr lvl="1" marL="34308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90480" algn="ctr">
              <a:spcBef>
                <a:spcPts val="349"/>
              </a:spcBef>
              <a:buClr>
                <a:srgbClr val="ff6600"/>
              </a:buClr>
              <a:buSzPct val="70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988920" indent="27936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indent="39204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 indent="3920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 indent="3920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160" y="46620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6699"/>
                </a:solidFill>
                <a:latin typeface="Arial"/>
              </a:rPr>
              <a:t>Decision Models</a:t>
            </a: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533520" y="3049560"/>
            <a:ext cx="624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6699"/>
                </a:solidFill>
                <a:latin typeface="Arial"/>
              </a:rPr>
              <a:t>Fleet Assignment and Flight Scheduling-Optimizing under uncertainty</a:t>
            </a: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6699"/>
                </a:solidFill>
                <a:latin typeface="Arial"/>
              </a:rPr>
              <a:t>May 1, 2006</a:t>
            </a: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315200" y="5638680"/>
            <a:ext cx="1523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336699"/>
                </a:solidFill>
                <a:latin typeface="Arial"/>
              </a:rPr>
              <a:t>Team 5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6699"/>
                </a:solidFill>
                <a:latin typeface="Arial"/>
              </a:rPr>
              <a:t>Animesh Ana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6699"/>
                </a:solidFill>
                <a:latin typeface="Arial"/>
              </a:rPr>
              <a:t>Anand Baldaw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6699"/>
                </a:solidFill>
                <a:latin typeface="Arial"/>
              </a:rPr>
              <a:t>Rajeev Ra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6699"/>
                </a:solidFill>
                <a:latin typeface="Arial"/>
              </a:rPr>
              <a:t>Shivanker Saxe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Extend Solution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829" t="0" r="0" b="5934"/>
          <a:stretch/>
        </p:blipFill>
        <p:spPr>
          <a:xfrm>
            <a:off x="708120" y="1066680"/>
            <a:ext cx="7692840" cy="4951440"/>
          </a:xfrm>
          <a:prstGeom prst="rect">
            <a:avLst/>
          </a:prstGeom>
          <a:ln w="25560">
            <a:solidFill>
              <a:srgbClr val="3366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8183-D439-42A7-BD68-ACAC70F659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Extend Solution (contd..)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1351" t="0" r="8108" b="0"/>
          <a:stretch/>
        </p:blipFill>
        <p:spPr>
          <a:xfrm>
            <a:off x="2009880" y="1066680"/>
            <a:ext cx="5105160" cy="5048280"/>
          </a:xfrm>
          <a:prstGeom prst="rect">
            <a:avLst/>
          </a:prstGeom>
          <a:ln w="25560">
            <a:solidFill>
              <a:srgbClr val="3366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82AF-88C3-4667-82AA-FF5AF177FE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Extend Solution (contd..)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6694560" cy="301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8EA3-F809-4569-9685-9FC334CCEC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Results from EXTEND simulation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1828800"/>
            <a:ext cx="80769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Revised annual profit (after accounting for variations in demand and flying time) =$84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Uncertainty reduces potential profit by $20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AAFF-E2A2-4BB4-A856-7D3519F0FB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5438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Optimizing under uncertainty (OPTQUEST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7102440" cy="15904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84840" y="2666880"/>
            <a:ext cx="69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t forecast = $276,000/day =$94 M/year (assuming 340 days/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9360" y="3432240"/>
            <a:ext cx="52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99"/>
                </a:solidFill>
                <a:latin typeface="Arial"/>
              </a:rPr>
              <a:t>For comparison- Results from Ext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57200" y="3962520"/>
            <a:ext cx="7277040" cy="16732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36400" y="5638680"/>
            <a:ext cx="29815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Profit forecast =$84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457200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48320" y="137160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91320" y="137160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867280" y="457200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0" y="480060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666880" y="167652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105520" y="480060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57800" y="167652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167652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33920" y="480060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53080" y="480060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00800" y="167652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81080" y="198108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7800" y="198108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502920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48120" y="502920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57800" y="198108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C18F-FE50-4C73-86AB-D13316214A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51"/>
              </a:spcBef>
              <a:buClr>
                <a:srgbClr val="33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Expected variability in flight times and demand reduces expected profit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33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Optimizing under uncertainty seems to be a superior approach and could yield up to 12% higher profit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33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Fixed demand and flight times: Profit = $104 million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33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Varying demand and flight time (EXTEND): Profit = $84 million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33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6699"/>
                </a:solidFill>
                <a:latin typeface="Arial"/>
              </a:rPr>
              <a:t>Varying demand and flight time (OPTIQUEST) = $95 million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EF46-EFA8-41B0-ADEB-CB0C852E8C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ackground (contd..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04920" y="1066680"/>
            <a:ext cx="80769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Price (revenue) for each ro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5613120" cy="270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892A-2A5F-43A3-8C8D-F4DD17EB5F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ackground (contd..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990720"/>
            <a:ext cx="3886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Operating cost for each ro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4486320" cy="21621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828800" y="3886200"/>
            <a:ext cx="4486320" cy="21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8F6D-89B7-4B65-99B8-AB5D288633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ackground (contd..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1295280"/>
            <a:ext cx="8076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Average passenger demand for each ro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5740560"/>
            <a:ext cx="80773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613480" cy="270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5944-F3C5-4B80-927C-88411DF0EA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ackground (contd..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1066680"/>
            <a:ext cx="80769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Average flight time for each route (one w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5613480" cy="270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BC7F-C821-4D38-A9C9-29A84781209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Index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1066680"/>
            <a:ext cx="8534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Problem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Use of Solver and Ext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irect optimization under uncertainty (OPTQU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7C23-47A2-4CD3-B312-D2C5C54864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ackground (contd..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1066680"/>
            <a:ext cx="80769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Historical average on-time performance 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5613120" cy="270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C037-3742-47EE-8CD5-A94E7883E4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olver Solution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04920" y="1066680"/>
            <a:ext cx="80769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Solver Parame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rcRect l="22164" t="38273" r="33597" b="30211"/>
          <a:stretch/>
        </p:blipFill>
        <p:spPr>
          <a:xfrm>
            <a:off x="685800" y="1600200"/>
            <a:ext cx="5829480" cy="31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D41F-96D2-496A-A55E-2E86B86055A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olver Solution (contd..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6629400" cy="15238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04920" y="1068480"/>
            <a:ext cx="8076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Solver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278160"/>
            <a:ext cx="8076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Total Pro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685800" y="3809880"/>
            <a:ext cx="7372440" cy="16480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304920" y="5410080"/>
            <a:ext cx="8076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Annual profit assuming the aircrafts run 340 days / year: $ 103.94 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5338-8D04-4957-9991-023AF66102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olver Solution (contd..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85800" y="1047600"/>
            <a:ext cx="6858000" cy="513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6B74-BE40-4EAF-A60C-D98897F8B8E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olver Solution (contd..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6629400" cy="36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73BA-27A7-4EBB-A123-4C422425E2B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Results from EXTEND simulation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1066680"/>
            <a:ext cx="807696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Revised annual profit (after accounting for variations in demand and flying time) =$84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Uncertainty reduces potential profit by $20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853416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D242-19C5-4578-973A-D86464C6A49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160" y="205704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Questions ?</a:t>
            </a:r>
            <a:r>
              <a:rPr b="1" lang="en-US" sz="2500" spc="-1" strike="noStrike">
                <a:solidFill>
                  <a:srgbClr val="669999"/>
                </a:solidFill>
                <a:latin typeface="Arial"/>
              </a:rPr>
              <a:t> </a:t>
            </a:r>
            <a:br>
              <a:rPr sz="2500"/>
            </a:br>
            <a:br>
              <a:rPr sz="2500"/>
            </a:br>
            <a:r>
              <a:rPr b="1" lang="en-US" sz="2500" spc="-1" strike="noStrike">
                <a:solidFill>
                  <a:srgbClr val="336699"/>
                </a:solidFill>
                <a:latin typeface="Arial"/>
              </a:rPr>
              <a:t>(Don’t forget the Happy Hour today!)</a:t>
            </a:r>
            <a:endParaRPr b="1" lang="en-US" sz="25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irline Fleet Scheduling is a complex problem.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51"/>
              </a:spcBef>
              <a:buClr>
                <a:srgbClr val="33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ignificant effects on airline bottom-line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576360" indent="-233280">
              <a:spcBef>
                <a:spcPts val="400"/>
              </a:spcBef>
              <a:buClr>
                <a:srgbClr val="3399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Blue aircraft utilization rate 46% higher NWA in 200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spcBef>
                <a:spcPts val="400"/>
              </a:spcBef>
              <a:buClr>
                <a:srgbClr val="3399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Blue’s operating cost = 3.2c/ASM* vs. 5.1c/ASM for NW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spcBef>
                <a:spcPts val="400"/>
              </a:spcBef>
              <a:buClr>
                <a:srgbClr val="3399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ays can increase flight time, destroy schedules, passenger goodwill and pro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spcBef>
                <a:spcPts val="400"/>
              </a:spcBef>
              <a:buClr>
                <a:srgbClr val="3399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itical to incorporate uncertainty in the optimization proces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spcBef>
                <a:spcPts val="400"/>
              </a:spcBef>
              <a:buClr>
                <a:srgbClr val="3399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good schedule and fleet assignment is a key competitive advant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0800" y="572616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*Available Seat M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D49B-92C9-450E-89D0-37AC73D3A2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ackground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838080"/>
            <a:ext cx="8534160" cy="62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Stern Airl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buClr>
                <a:srgbClr val="3366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Key Management: Stern gradu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buClr>
                <a:srgbClr val="3366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Other employees: HBS/Stanford/Columbia gradu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buClr>
                <a:srgbClr val="3366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Six possible destination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After evaluating various characteristics such as pricing, demand, gate availability and costs, competitor profi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15 possible ro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4 aircrafts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, 2 Boeing 737-500 and 2 Airbus A3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buClr>
                <a:srgbClr val="3366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Airbus A320: 144 seats; turnaround time of 35min </a:t>
            </a:r>
            <a:r>
              <a:rPr b="0" lang="en-US" sz="1800" spc="-1" strike="noStrike">
                <a:solidFill>
                  <a:srgbClr val="33669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A1 and A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buClr>
                <a:srgbClr val="3366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Boeing 737-500: 108 seats; turnaround time of 25min </a:t>
            </a:r>
            <a:r>
              <a:rPr b="0" lang="en-US" sz="1800" spc="-1" strike="noStrike">
                <a:solidFill>
                  <a:srgbClr val="33669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B1 and 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78C7-3A37-49D6-BBAB-B3C7DCBA9C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Problem Definition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1066680"/>
            <a:ext cx="853416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99"/>
                </a:solidFill>
                <a:latin typeface="Arial"/>
              </a:rPr>
              <a:t>Develop a model to assign routes to each aircraft in the fleet such that profits are maxim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5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9455-F7B2-419E-8CF9-5756077BF4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onstraint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1219320"/>
            <a:ext cx="8458200" cy="42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7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No two aircrafts can have identical ro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7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No route can be flown more than six times in a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7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An aircraft should end its day in the city it started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7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Total flying time (plus turnaround time) for Airbus &lt; 840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7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Total flying time (plus turnaround time) for Boeing &lt; 1,080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7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pill cost = $450/passe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7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7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Profit: Revenues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669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[(demand – spill over) * number of passengers]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Costs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669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[respective cost per route + (spill over * $450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0AD1-6FE2-456D-8118-008409AF3E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Approach 1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Optimize and then simulate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Optimize route selection and fleet assignment assuming fixed demand and flight times in Solver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Introduce uncertainty in demand and flight times via EXTEND simulation and measure penalties 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Subtract penalties from maximum profit to get a “realistic” profit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3581280"/>
            <a:ext cx="754380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Approach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426708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Optimize and simulate simultaneous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6699"/>
                </a:solidFill>
                <a:latin typeface="Arial"/>
              </a:rPr>
              <a:t>Optimize under uncertainty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using  OPTQUEST module (in CRYSTAL BALL) to directly obtain optimal conditions under uncertain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(crude equivalent of Solver and Crystal Ball combined in o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9407-0140-4681-B74B-210E994CCC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1532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Results under fixed demand (Solver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277040" cy="1673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41440" y="1219320"/>
            <a:ext cx="20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eet Ass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4038480"/>
            <a:ext cx="80773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Daily profit = $305,7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Annual profit (aircrafts run 340 days / year): $ 104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51B0-F8B4-4592-BA61-A3F795E2C0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Variability introduced via EXTEND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1676520"/>
            <a:ext cx="807696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Demand  and Flight time are based on a normal distribution with a standard deviation of 10% of the 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Demand Spill cost =$450/passe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Flight delay cost = $100/min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BDF8-E650-48F2-964A-C828E3E624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3T19:04:52Z</dcterms:created>
  <dc:creator>ABaldawa</dc:creator>
  <dc:description/>
  <dc:language>en-US</dc:language>
  <cp:lastModifiedBy>RR</cp:lastModifiedBy>
  <dcterms:modified xsi:type="dcterms:W3CDTF">2006-04-30T18:46:12Z</dcterms:modified>
  <cp:revision>207</cp:revision>
  <dc:subject/>
  <dc:title>Descartes Systems Group, Inc </dc:title>
</cp:coreProperties>
</file>